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94960" y="746280"/>
            <a:ext cx="497052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3C20-5368-4BC1-8007-83D0F98AFCB9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70F9-801C-4A5D-945B-582DEC86ADA0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2F34-C30E-4C0C-9634-1CC999A1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822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404600"/>
            <a:ext cx="822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B17E-3F6C-445A-A99E-6ADA5385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68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7447-9C4C-43AF-B259-BBCB4682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080" y="263664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4520" y="263664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40460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080" y="440460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4520" y="440460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BB68-F8FA-42BD-9BF3-110B5F36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C355-1249-444A-A28D-7ADEBB3E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36DA-2B75-47C9-8C7D-FB9572F5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5C86-2225-42D7-8D3C-C40D1248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F10F-B1B0-444C-86A3-200E43FD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9640" y="1339560"/>
            <a:ext cx="82296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3515-3FF4-49CA-A2E5-4AD61075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9CD5-275B-4C5B-81E4-80C4351F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68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D931-114D-4A47-9288-17477AD3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404600"/>
            <a:ext cx="822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9694-5415-4104-B909-83C0B755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6"/>
          <p:cNvPicPr/>
          <p:nvPr/>
        </p:nvPicPr>
        <p:blipFill>
          <a:blip r:embed="rId2"/>
          <a:srcRect l="0" t="0" r="0" b="-295"/>
          <a:stretch/>
        </p:blipFill>
        <p:spPr>
          <a:xfrm>
            <a:off x="0" y="-68400"/>
            <a:ext cx="9144000" cy="6716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2608-9356-4333-AC92-1491E05811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F:\美工素材\校徽标志\校徽组成图.png"/>
          <p:cNvPicPr/>
          <p:nvPr/>
        </p:nvPicPr>
        <p:blipFill>
          <a:blip r:embed="rId1"/>
          <a:stretch/>
        </p:blipFill>
        <p:spPr>
          <a:xfrm>
            <a:off x="0" y="4529160"/>
            <a:ext cx="9144000" cy="1542960"/>
          </a:xfrm>
          <a:prstGeom prst="rect">
            <a:avLst/>
          </a:prstGeom>
          <a:ln w="0">
            <a:noFill/>
          </a:ln>
        </p:spPr>
      </p:pic>
      <p:sp>
        <p:nvSpPr>
          <p:cNvPr id="50" name="矩形 6"/>
          <p:cNvSpPr/>
          <p:nvPr/>
        </p:nvSpPr>
        <p:spPr>
          <a:xfrm>
            <a:off x="1332000" y="2782800"/>
            <a:ext cx="753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课程名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参赛教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学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矩形 5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1895400"/>
          </a:xfrm>
          <a:prstGeom prst="rect">
            <a:avLst/>
          </a:prstGeom>
          <a:ln w="0">
            <a:noFill/>
          </a:ln>
        </p:spPr>
      </p:pic>
      <p:sp>
        <p:nvSpPr>
          <p:cNvPr id="52" name="矩形 6"/>
          <p:cNvSpPr/>
          <p:nvPr/>
        </p:nvSpPr>
        <p:spPr>
          <a:xfrm>
            <a:off x="9360" y="5732640"/>
            <a:ext cx="914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微软雅黑"/>
              </a:rPr>
              <a:t>2015</a:t>
            </a:r>
            <a:r>
              <a:rPr b="1" lang="zh-CN" sz="2800" spc="-1" strike="noStrike">
                <a:solidFill>
                  <a:srgbClr val="002060"/>
                </a:solidFill>
                <a:latin typeface="Calibri"/>
                <a:ea typeface="微软雅黑"/>
              </a:rPr>
              <a:t>年    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7T08:58:37Z</dcterms:created>
  <dc:creator>sewjtu-gao</dc:creator>
  <dc:description/>
  <dc:language>en-US</dc:language>
  <cp:lastModifiedBy>admin</cp:lastModifiedBy>
  <cp:lastPrinted>1899-12-30T00:00:00Z</cp:lastPrinted>
  <dcterms:modified xsi:type="dcterms:W3CDTF">2015-06-09T06:16:00Z</dcterms:modified>
  <cp:revision>47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